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8E537A-F3F9-43C8-AD85-358A136065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3277A0-ACB4-4560-BBA7-DF60E28865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512C2A-E388-4326-B97A-2802593707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679556-6A84-4409-8FD4-91041CF610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46E9E4-87F7-422C-BEAF-B2B2B3CE28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B1EEDD-D1A7-4339-B6BE-A37BAE9D9A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89EA73-D6C8-432D-A37F-D7AA17232A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1232B4-886F-42F4-B3E5-5A8F2009ED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434ABA-2A48-4D46-94A7-FBC2F0F893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243788-F080-45E6-820E-57E6E3CA7D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80E19D-03B7-4BE4-915B-4696DC344B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F709BA-7FC1-4902-ADBC-7D3373F3C0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E0DBB4-9089-48A5-A2C2-6050B9FCC6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93C988-997E-4B02-BDD2-3E383181CA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2F45A6-CEEA-4538-8711-9BFCAD77EC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4E06C7-AD3C-473F-9E9E-5E4C2D1D0D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94C40B-E161-43D2-8EED-85F37B2B53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2E993C-85E2-403C-83C1-9411F0BB6F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8270D8-7EF4-415A-8317-575EB44B7A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51F92E-E5BE-4534-B02D-CEF6A63260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8DE69A-1E70-445A-B35F-F4FC374C9B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7BB13B-8EC2-483F-9D9B-5A85D9A15C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7AA8B8-A4A1-4D4F-BBC0-4030E81BF3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93353F-07CC-467F-AAAD-D6B913ACC2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17F90-7570-4155-97D4-4AA6C14D11A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13FFD-C98B-462F-AE7F-344C4BBB1D1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7F4F3C9-7B2D-40EB-A4DA-44AD9083315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D8DD9DC-E1B0-4BF8-942F-DB51D04B05A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82EE48-5582-4C5E-B97D-DCF3577EC07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1644CB-B1DF-43DF-A42F-C9DC1174607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A237ED-5458-430F-9F93-67D6477DE37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292783-A28F-4218-9A5C-C738E7DE530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D1243E-4085-4BE0-A81E-DF73C602C17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5EE1DD-F8A1-437F-AD5E-37121C0BBA9F}"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19EDE2-2AAF-4D89-856C-BB269B27E4F2}"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5ABC95-AD84-4FEE-9DDD-C17EAB5D2343}"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4A3922-AF93-4B00-9E2B-9F129330E675}"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665424-ED6D-4D91-AFD5-71DF036B2358}"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9877FA-2B19-4660-8FD8-D2512115A893}"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28E82E-719F-4E45-BDDD-8D9A9BB31D42}"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2C502C-5C8C-4AD4-96A4-D8FA95814CDA}"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8B1B19-E1F2-4B59-8AFE-774F49C4BBCA}"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7433A9-9AD2-4DC6-AF46-49B885E7FC12}"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A9091A-4BC2-4E3B-94B7-3A9D36734BA9}"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A44FA6-19B9-4DDA-AA99-B668DCC6C00E}"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A3C7E4-7BD2-4FAB-9D5B-CCAB8298B796}"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D6435F-15AD-4BF6-9F9B-022EFAFA3CC1}"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E65B59-1AA1-44C4-9FBF-88216418F0FD}"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C9E4EF-C407-44B7-A8DE-50EDE3A1F407}"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B628E9-F99C-4B97-8689-A9A31A085CE7}"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582453-FC67-4D65-ABFF-19815F86A1A7}"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046AFB-12A5-4653-A5D5-1995BE607FBF}"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3BBC59-3190-4B13-B3EF-8B753AFD8F26}"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692697B-B75F-4C22-974B-44C1170243EF}"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0CE6FE-34FC-4CAA-9FE4-FAAB93CBDC7D}"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389908-F6E8-401A-ACC8-B04231F91AFF}"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9E99AB-24AD-45CF-8F1C-6FABD29E0F3A}"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74CC83-05BF-4976-8528-CFD6BCB5BA94}"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7DA0F4-F8CE-4D16-8AEA-3B328E1E9A75}"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6D3E44-C327-4DD9-A870-895CEA9B70A3}"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9BA009-FF69-45CD-947C-455702D6AAFE}"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DEE093-A516-4D73-82AF-6275F09EC5A1}"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5B6263-5EA5-4B58-9DB0-01E4995F7B49}"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9E735B-7761-4135-B22A-758772A905F1}"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99726E-CFB8-47A8-927C-DA2BBECB19E0}"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5E3592-6935-4651-BA62-9C4764FC3CE2}"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E84A2F-DE10-4364-9457-84198A8D45FA}"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9D5F28-D469-4D1D-BFD5-95EE6771C173}"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F1FC3D-E3E1-4BE8-B358-8D5C32D86ACB}"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41F17C-93FF-482B-95B5-A89B67C87FC2}"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003934-19D2-420F-9A6A-DF4664FE2101}"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76B1D1-4699-433E-AE7E-A14CBF858B88}"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D87DC5-7ED1-47C1-A121-947A7732398D}"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7E9990-9092-4532-85C0-965CDF019059}"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42342DB-1155-4AAA-927E-D88FAB03E4B5}"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BB87F3-C8C5-4BB2-A9A7-24FBBB7DE13C}"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A4962B-00BE-4F42-83CC-0B3149872FEA}"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7358736-64CA-49A6-9AD5-8E599E91B786}"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0F4282-9E8F-4B07-AAC5-124937B9AC3A}"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89F094-9822-49BC-B09D-0B3101962A60}"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923E31-6A00-407C-B796-7EBF7F6FE041}"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2EF37A-5256-493B-B0EB-C9EEE9A39CED}"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C612EE-62B1-47DC-901B-56BB97AF37B4}"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04B04A-7918-4A5C-B4BF-238AE0F88CB5}"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02429D-F035-4BF0-AA79-185F1A1FAD2F}"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8C25C8F-DB4B-4B2F-B0FF-5C85CB92D832}"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3166E9-0EFD-4DDF-91A6-08701827BBFA}"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F06D61-1F74-4E5F-8EC9-646AE5FFD4F8}"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5B6826-D6DA-4A8D-8B05-EE73C074B44F}"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56C86C-277D-4431-9DF9-8F98B9CF78A4}"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B4F020-BE22-4317-A4E6-086F7DFD97EC}"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9539F36-F5D1-4385-8998-2C8D41B59589}"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416008-29AF-482F-9187-F09B9F119798}"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CBF04B-5365-47C8-8AEA-E5CABD785AF4}"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31D87A-9977-4F90-873A-DC62F1890C5E}"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ED7D5D-7E75-4F99-9623-4DB59EC00743}"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01F2E59-54FF-4CE5-9391-C65DE921CEBD}"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BE55F7-F074-43D9-85B8-398C15695EBC}"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436EE1-9D33-48EB-91B9-09913F480B57}"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45C12C-1343-4852-9FDE-96D98C752191}"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BC03D4-3634-4EB9-8ADB-41FA1AF0C46F}"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C66A18-056C-4102-9971-BB8272FFDF19}"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29DE81-D50D-479E-84CD-264062DBDEAF}"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8ACBFF8-0C66-4D38-AA85-770047011D20}"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7FDE0F-E9F9-4B33-ADB4-447890D5A3E1}"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45017F-27D7-4FE2-AE12-AB493911E743}"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5E12C4-2957-4053-8EC7-3F7642190689}"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477B950-6924-4908-9686-03B98CE7A7BC}"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1E0F3D-1FF9-41B3-B016-00B4050DF1FF}"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9D3F06B-9F3F-444C-A8EE-D038301DFE0B}"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938F4F-E94D-46E8-9E16-486AD3D36120}"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F46AAC-30E9-478F-B776-7D00935415FB}"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BB3F6D-430C-4721-A54B-A16E17520CC5}"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C2D1DA-41C2-42D3-B19C-0A8A4C9E22D5}"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072DBF-D929-4D31-B587-5FC820A3893A}"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B87B22-1733-4E89-947E-2364E69F0740}"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689731-08D8-4118-83BE-5D24EEC2CDF2}"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3F4B86-6C26-498C-81F4-1B9F6E306DE4}"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18AC97-DE47-4EC5-B396-AB1CE0BF9A00}"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9C4F2B-9AF8-4B14-A2D4-84A4B9DD9360}"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E56DFE-A94C-48D5-9AF9-B4531BD9FE95}"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F87593-44E2-4F60-8882-3897906A618B}"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0B0390-5725-43BC-9A42-4BFD76A09FEB}"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2CAC11-88CA-4C67-AA99-AA371CA4B465}"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E4534D-C5DA-4C69-BDE7-CF4A5493322A}"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CC355C5-EC3F-4356-B707-92480259175A}"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791BC0-E237-44E3-AF8E-0672EBCB3D8E}"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C094B4-660C-42EA-800D-40F39F66E960}"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A01471-D8FD-413D-B312-4B5294A20B5D}"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651811-CB79-4E4E-B406-64E4C36649C0}"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60D1CB-B3AF-4D71-A88B-9ABB8C9F01D5}"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8DC7BB-B8D7-441B-AF48-B567CF594B98}"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1AAFCE-5156-4B55-A229-4C7FDE0272E8}"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F18B4A-157E-483A-B034-806F0E80B913}"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37BE8E-5500-434D-B430-7AE5D4EDB03B}"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F479E4-1911-41D1-8DCA-6AFB795E0AA5}"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BA23A4-8A0A-4465-A394-B2E6DC9FE6A4}"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C0DCD3-3380-4AF6-9E2B-0C55B9B63E3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3FD5E3-584D-44EE-8F8B-235DEF628405}"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33BBF1-35E1-4AEA-A73C-4CED283A2496}"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A88477-92CB-4A4D-A0CE-2D3D2A333ADE}"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686C53-0191-4B92-8ECA-F83CA2445F5C}"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DFA516-E5B0-4A5A-AE68-D3BD5D5A1D4E}"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B06A61-AB8B-422E-A06A-A637D988C7A2}"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EBA4EA-FD16-48D6-AFB7-6C8831C86E1B}"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BC629A-EB66-4131-A0D5-29EA6A35DC4F}"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D1FEF0-AE8D-4362-AC12-E2D32FE99294}"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057993-0869-4DD0-900D-3561036446C3}"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7AEAC8-460D-4DEF-B280-F9C27DD6F328}"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C362B1-CFB8-44D9-9D8A-3070C7B866AB}"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CD2307-FC9A-409F-ACB9-09DC3E112B51}"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FF5E10-3DD0-4F0F-8844-2FDA22559554}"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37EBB0-24DC-46E5-A174-47AC3DE2631A}"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CFA1E3C-8C5E-4008-B447-B4B4DCFE4200}"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86AC4F-7E71-4751-9CE5-C452C7B4010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9F9A77-37FF-4BAB-93FD-B03201AB7A2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99A974-BC47-43F4-AE0A-CFEBEB1AC85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99792E-694D-4EBF-99D1-818F4EEF9AA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32C7EF-D921-4599-A6F6-C82164F6FDB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A5DA27-42D3-47E8-93C0-F35A54B45CD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682DDBF-9D31-47C3-811E-1AF24FCBD20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068A97-5ABF-484C-AA7A-738ED72FC22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07C9DF-8347-419D-9617-D64C55571EE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D42025-1BAD-4F0D-90BC-5186B715130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0A9811-4296-44DB-8589-6FE7829FDD0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91FBDA-809B-48D5-BCF6-92A5F03C345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44432F-56FB-41EF-AD00-06AEE7FCC3F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4AB235-DFF6-4214-BF21-8202F043077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14BFF6-59F9-4E7E-8AB6-91D810386FC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A05F51-CFEE-481E-B012-80DF65B44C1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D20DF4-1527-4A85-86CE-79230F2CDAA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968971-E2D6-490D-9095-C929C6AB131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B905DA-7591-4698-A579-71925DB7388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39C129-B7A3-4661-A665-53BBD6F38C4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D30B37-063E-469F-80DC-C954EB8E214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D65408-16A4-455E-934B-0EB800E678B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CBB7CF-A7DF-4442-9CA2-E8FEFA86C51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5FC63E-EFDF-4E90-863A-5800DFAF7B9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E7AF89-6DFC-47A1-B098-66855E24AB2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68C118-755A-4AAA-A0DC-39ED8435F23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3C6342-F715-4BF8-B9C4-94564E0221C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6C553B-4CE5-4706-ABCC-BDD70089C14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689665-FB79-4BEF-9EE0-5C5155CCE4E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E84F48-946F-4F2B-B26F-F8B1626D477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9EB24A-7EF5-4A93-940D-FE936980477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0968FC-09E9-4520-BCDF-4553E9985D3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82A46E-59FF-4E8E-BC0B-9FA9BCAEA4F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7C52C4-4061-47F3-B8E5-FF7D7510B2A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73255D-FD57-4329-9B70-71EBA1ECF51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76C016-72D1-488E-8699-427CDF61285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A2EB15-FB8F-48E4-9E4E-6B7489DA50B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263EB5-31B3-469B-877A-398319BC9A8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66B459-2E39-41DC-8625-019ADC3C1D9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961E06-E59F-4B4A-91C2-033B9801137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949187-9015-4000-B624-4E922AB8230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ED4D42-F345-4BAA-961B-808FCDBDC38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C6D71D-8215-4CC8-BF88-41E517075A5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35D0E1-BC06-4AC7-A9D8-F7CAE467E51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B8B42D-ABEF-4800-8370-3C2F942EFBC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73DFB3-6DBD-4A9B-B7D2-13AEB99F687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C0210D-2CBC-48A6-91C3-812587A1C5B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B90F646-928F-4411-8ED8-185E28D8438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288166-109A-48DF-A389-AA439AB8D00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3DE640-0E78-4ADD-BF57-12988289C75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68CCF6-3F2A-46F8-AAD4-2EDC6A3702F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FFDCE7-9EE8-4DCA-B41F-1EBD49C799D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2E24BE-25DF-46DB-9D66-81BD622B9AC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320443-CF08-40FF-86AB-CD6ECF1B86F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FB7773-DD67-4729-8D20-DCFA8260503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7F58D3-2CAA-437B-B8CB-8443E724515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FCA5E96-0A1B-4E7C-87E4-C4F932E3D21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91F5B2-2DC4-4185-8885-F5E0EA8F1B2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A1A1B4-17B9-44DB-88DF-1331B4F4562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A080E1-0172-4FC6-9349-8780E5FD385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A7521E-DD29-4126-8FBD-F2AE55310ED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6AA380-EF99-4991-9D44-1D367A2C668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506A92-3755-49E3-B4CC-B3C98FB1550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461C48-811B-4122-988A-5455B58D8D5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60D2A8-C735-4164-9D1F-47BACAA9451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EA5030-1DD7-4EED-AE95-879841F64DB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4C8E81-973D-4790-A864-0B33286E84B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D0FC3C-1292-4EBA-A0F0-9AB3451F30A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136827-1B3E-40BA-9FD9-A8A9D02DF28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5FAF1B-5030-4BE3-AAA5-04171B41A4D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66BC11-0A86-483B-A9F2-62DE8AA5627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285034E-D6C4-4A92-8889-F3F006CE948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0009F1-1010-40C4-995E-D77B84B5893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FBEF45-8930-4C15-8AF4-49D95BF9CC7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69D8C5-5ECB-47F1-8A6D-23ED4ED1C60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D2EADD-A24E-413C-9C22-84E992B7F81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D53347-3642-43A7-83A7-82430243253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6CAEF6-A676-4B57-8934-63A2C6371B5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2E1788-D529-4372-B2F9-B536BCF38B1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D328D5-32AA-492A-A123-690C9EC8324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97B5FA-ED21-4240-98DF-E8CF51A5255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636D1A-BD04-4E04-B852-77C577FC778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290217-B77D-4C11-B9FD-357DC7328B2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87966D-130D-4122-83FA-4FD80FA73CA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0699C1-2694-4F06-B6F1-8A1443A16D8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