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690480"/>
            <a:ext cx="7005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431720"/>
            <a:ext cx="70056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353040"/>
            <a:ext cx="70056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690480"/>
            <a:ext cx="7005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431720"/>
            <a:ext cx="341856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2400" y="1431720"/>
            <a:ext cx="341856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353040"/>
            <a:ext cx="341856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2400" y="3353040"/>
            <a:ext cx="341856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690480"/>
            <a:ext cx="7005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431720"/>
            <a:ext cx="22554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0920" y="1431720"/>
            <a:ext cx="22554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89720" y="1431720"/>
            <a:ext cx="22554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353040"/>
            <a:ext cx="22554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0920" y="3353040"/>
            <a:ext cx="22554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89720" y="3353040"/>
            <a:ext cx="22554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690480"/>
            <a:ext cx="7005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52480" y="1431720"/>
            <a:ext cx="700560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690480"/>
            <a:ext cx="7005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52480" y="1431720"/>
            <a:ext cx="700560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690480"/>
            <a:ext cx="7005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431720"/>
            <a:ext cx="341856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342400" y="1431720"/>
            <a:ext cx="341856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90480"/>
            <a:ext cx="7005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52480" y="690480"/>
            <a:ext cx="7005600" cy="25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90480"/>
            <a:ext cx="7005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480" y="1431720"/>
            <a:ext cx="341856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42400" y="1431720"/>
            <a:ext cx="341856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752480" y="3353040"/>
            <a:ext cx="341856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690480"/>
            <a:ext cx="7005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431720"/>
            <a:ext cx="700560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480" y="690480"/>
            <a:ext cx="7005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480" y="1431720"/>
            <a:ext cx="341856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42400" y="1431720"/>
            <a:ext cx="341856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42400" y="3353040"/>
            <a:ext cx="341856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480" y="690480"/>
            <a:ext cx="7005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52480" y="1431720"/>
            <a:ext cx="341856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42400" y="1431720"/>
            <a:ext cx="341856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2480" y="3353040"/>
            <a:ext cx="70056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690480"/>
            <a:ext cx="7005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52480" y="1431720"/>
            <a:ext cx="70056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52480" y="3353040"/>
            <a:ext cx="70056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90480"/>
            <a:ext cx="7005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431720"/>
            <a:ext cx="341856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42400" y="1431720"/>
            <a:ext cx="341856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752480" y="3353040"/>
            <a:ext cx="341856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342400" y="3353040"/>
            <a:ext cx="341856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480" y="690480"/>
            <a:ext cx="7005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52480" y="1431720"/>
            <a:ext cx="22554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20920" y="1431720"/>
            <a:ext cx="22554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89720" y="1431720"/>
            <a:ext cx="22554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752480" y="3353040"/>
            <a:ext cx="22554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120920" y="3353040"/>
            <a:ext cx="22554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89720" y="3353040"/>
            <a:ext cx="22554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90480"/>
            <a:ext cx="7005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431720"/>
            <a:ext cx="700560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90480"/>
            <a:ext cx="7005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431720"/>
            <a:ext cx="341856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2400" y="1431720"/>
            <a:ext cx="341856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690480"/>
            <a:ext cx="7005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690480"/>
            <a:ext cx="7005600" cy="25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90480"/>
            <a:ext cx="7005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431720"/>
            <a:ext cx="341856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2400" y="1431720"/>
            <a:ext cx="341856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353040"/>
            <a:ext cx="341856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690480"/>
            <a:ext cx="7005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431720"/>
            <a:ext cx="341856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2400" y="1431720"/>
            <a:ext cx="341856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2400" y="3353040"/>
            <a:ext cx="341856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690480"/>
            <a:ext cx="7005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431720"/>
            <a:ext cx="341856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2400" y="1431720"/>
            <a:ext cx="341856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353040"/>
            <a:ext cx="70056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106668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Wednesday, July 09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4:30pm - 5:15pm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971800" y="1562040"/>
            <a:ext cx="5791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429000" y="6465960"/>
            <a:ext cx="5715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  <a:ea typeface="HG Mincho Light J"/>
              </a:rPr>
              <a:t>Aleksey Sanin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HG Mincho Light J"/>
              </a:rPr>
              <a:t> -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HG Mincho Light J"/>
              </a:rPr>
              <a:t>How to use XML Security standards in real wor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52480" y="690480"/>
            <a:ext cx="7005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752480" y="1431720"/>
            <a:ext cx="700560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1120" indent="-321120"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1280" indent="-266760">
              <a:spcBef>
                <a:spcPts val="711"/>
              </a:spcBef>
              <a:buClr>
                <a:srgbClr val="b4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711"/>
              </a:spcBef>
              <a:buClr>
                <a:srgbClr val="b4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-217080">
              <a:spcBef>
                <a:spcPts val="711"/>
              </a:spcBef>
              <a:buClr>
                <a:srgbClr val="b4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440" indent="-21708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440" indent="-21708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457200"/>
            <a:ext cx="70102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HG Mincho Light J"/>
              </a:rPr>
              <a:t>How to Use XML Security Standards in Real World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  <a:ea typeface="HG Mincho Light J"/>
              </a:rPr>
              <a:t> </a:t>
            </a:r>
            <a:br>
              <a:rPr sz="4000"/>
            </a:br>
            <a:br>
              <a:rPr sz="4000"/>
            </a:br>
            <a:r>
              <a:rPr b="0" i="1" lang="en-GB" sz="4000" spc="-1" strike="noStrike">
                <a:solidFill>
                  <a:srgbClr val="000000"/>
                </a:solidFill>
                <a:latin typeface="Arial"/>
                <a:ea typeface="HG Mincho Light J"/>
              </a:rPr>
              <a:t>Aleksey Sanin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&lt;aleksey@aleksey.Com&gt;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O’Reilly Open Source Convention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July 7 - 11, 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8600" y="14580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XML Digital Signature Gene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1432080"/>
            <a:ext cx="701064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Calculate digests other signed data from &lt;dsig:Reference/&gt; elemen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3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Compose &lt;dsig:SignedInfo/&gt; elemen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3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Calculate signature other &lt;dsig:SignedInfo/&gt; element and place result in &lt;dsig:SignatureValue/&gt; elemen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3000"/>
              </a:lnSpc>
              <a:spcBef>
                <a:spcPts val="71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3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8600" y="136080"/>
            <a:ext cx="701028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XML Digital Signature: Enveloped Signature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8600" y="1428840"/>
            <a:ext cx="7010280" cy="49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3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Envelo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SignedData&gt;Hello, World!&lt;/SignedDat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Signature xmlns="http://www.w3.org/2000/09/xmldsig#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SignedInfo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CanonicalizationMethod Algorithm="http://www.w3.org/…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SignatureMethod Algorithm="http://www.w3.org/2000/09/xmldsig#rsa-sha1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Reference URI="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Transform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Transform Algorithm="http://www.w3.org/2000/09/xmldsig#enveloped-signature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Transform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igestMethod Algorithm="http://www.w3.org/2000/09/xmldsig#sha1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igestValue&gt;9H/rQr...&lt;/DigestValu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Refer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SignedInfo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SignatureValue&gt;Mx4psI...&lt;/SignatureValu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KeyInfo&gt;&lt;KeyName&gt;My-RSA-Key&lt;/KeyName&gt;&lt;/KeyInfo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Signatur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Envelo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8600" y="122400"/>
            <a:ext cx="701028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XML Digital Signature: Enveloped Signature Example (Continu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8600" y="190476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3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gested da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Envelo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SignedData&gt;Hello, World!&lt;/SignedDat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Envelo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3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igned da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SignedInfo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CanonicalizationMethod Algorithm="http://www.w3.org/…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SignatureMethod Algorithm="http://www.w3.org/2000/09/xmldsig#rsa-sha1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Reference URI="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Transform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Transform Algorithm="http://www.w3.org/2000/09/xmldsig#enveloped-signature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Transform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igestMethod Algorithm="http://www.w3.org/2000/09/xmldsig#sha1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igestValue&gt;9H/rQr...&lt;/DigestValu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Refer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SignedInfo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8600" y="410760"/>
            <a:ext cx="702324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XML Encryption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8600" y="1428480"/>
            <a:ext cx="70102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3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enc:EncryptedData Id? Type? MimeType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enc:EncryptionMethod Algorithm /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sig:KeyInfo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enc:CipherDat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enc:CipherValue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enc:CipherReference URI?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/enc:CipherDat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enc:EncryptionProperties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/enc:EncryptedDat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8960" y="410760"/>
            <a:ext cx="6858000" cy="623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5440" bIns="55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XML Encryption: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8960" y="1428840"/>
            <a:ext cx="7391520" cy="466416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5440" bIns="55440" anchor="t">
            <a:normAutofit/>
          </a:bodyPr>
          <a:p>
            <a:pPr marL="338040" indent="0">
              <a:lnSpc>
                <a:spcPct val="93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?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EncryptedData xmlns="http://www.w3.org/2001/04/xmlenc#" Type="http://www.w3.org/2001/04/xmlenc#Elemen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EncryptionMethod Algorithm="http://www.w3.org/2001/04/xmlenc#tripledes-cbc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KeyInfo xmlns="http://www.w3.org/2000/09/xmldsig#"&gt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KeyName&gt;My-DES-Key&lt;/Key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/KeyInfo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Cipher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CipherValue&gt;WXlDy...&lt;/CipherValu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/Cipher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/Encrypted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8960" y="388440"/>
            <a:ext cx="6858000" cy="623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5440" bIns="55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XML Security Toolk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120" y="1431720"/>
            <a:ext cx="7086600" cy="47084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5440" bIns="55440" anchor="t">
            <a:normAutofit/>
          </a:bodyPr>
          <a:p>
            <a:pPr marL="338040" indent="-338040">
              <a:lnSpc>
                <a:spcPct val="93000"/>
              </a:lnSpc>
              <a:spcBef>
                <a:spcPts val="462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XML Security Library (C/C++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aleksey.com/xml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62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icrosoft .NET (C#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msdn.microsoft.com/netframewor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62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ataPower (Hardware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datapower.com/products/xs40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62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pache XML Security (Java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xml.apache.org/security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62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ltimore Technologies (Java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baltimore.com/keytools/xm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62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BM XML Security Suite (Java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alphaworks.ibm.com/tech/xmlsecurity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62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haos Technology Corporation (Java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phaos.com/products/category/xml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8600" y="410760"/>
            <a:ext cx="701028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XML Security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8600" y="1428480"/>
            <a:ext cx="701028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4440" indent="-334440">
              <a:lnSpc>
                <a:spcPct val="93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Open Source (MIT licens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100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ased on LibXML2/LibXSLT and your favorite cryptographic libr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100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Strong standards supp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100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Very fa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100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an use practically any cryptographic library (OpenSSL, GnuTLS, NSS, …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100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ortable (Linux, OpenBSD, FreeBSD, Solaris, Windows, Mac OS X, …)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8600" y="410760"/>
            <a:ext cx="701028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XML Security Library: Obje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431720"/>
            <a:ext cx="70106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rans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Keys Mana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Operation Contex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63"/>
              </a:spcBef>
              <a:buClr>
                <a:srgbClr val="b4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63"/>
              </a:spcBef>
              <a:buClr>
                <a:srgbClr val="b4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63"/>
              </a:spcBef>
              <a:buClr>
                <a:srgbClr val="b4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63"/>
              </a:spcBef>
              <a:buClr>
                <a:srgbClr val="b4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y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emplates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58960" y="145800"/>
            <a:ext cx="6858000" cy="111420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5440" bIns="55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XML Security Library: Templa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8600" y="1428480"/>
            <a:ext cx="7010280" cy="498780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5440" bIns="55440" anchor="t">
            <a:normAutofit/>
          </a:bodyPr>
          <a:p>
            <a:pPr marL="338040" indent="0">
              <a:lnSpc>
                <a:spcPct val="93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Envelo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SignedData&gt;Hello, World!&lt;/SignedDat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Signature xmlns="http://www.w3.org/2000/09/xmldsig#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SignedInfo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CanonicalizationMethod Algorithm="http://www.w3.org/…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SignatureMethod Algorithm="http://www.w3.org/2000/09/xmldsig#rsa-sha1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Reference URI="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Transform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Transform Algorithm="http://www.w3.org/2000/09/xmldsig#enveloped-signature"/&gt;        &lt;/Transform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igestMethod Algorithm="http://www.w3.org/2000/09/xmldsig#sha1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igestValue&gt;&lt;/DigestValu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Refer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SignedInfo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SignatureValue&gt;&lt;/SignatureValu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KeyInfo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KeyName&gt;&lt;/Key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KeyInfo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Signatur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Envelo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8960" y="134640"/>
            <a:ext cx="6858000" cy="1135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5440" bIns="55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XML Security Library: Signing or Encrypting XML Docu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58600" y="1428480"/>
            <a:ext cx="7162920" cy="448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5440" bIns="55440" anchor="t">
            <a:normAutofit/>
          </a:bodyPr>
          <a:p>
            <a:pPr marL="338040" indent="-338040">
              <a:lnSpc>
                <a:spcPct val="93000"/>
              </a:lnSpc>
              <a:spcBef>
                <a:spcPts val="56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pare keys manager (the same keys manager can be shared by multiple oper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56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ate or load "template" and select the start node (&lt;dsig:Signature/&gt; or &lt;enc:EncryptedData/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56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ate signature (xmlSecDSigCtx) or encryption (xmlSecEncCtx) contex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56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ecify signature or encryption key in the template (by name, for example) or in the contex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56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gn or encrypt data and consume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56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troy context objec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58960" y="410760"/>
            <a:ext cx="6858000" cy="623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5440" bIns="55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58600" y="1428480"/>
            <a:ext cx="7010280" cy="397836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5440" bIns="55440" anchor="t">
            <a:normAutofit/>
          </a:bodyPr>
          <a:p>
            <a:pPr marL="338040" indent="-338040">
              <a:lnSpc>
                <a:spcPct val="93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3C XML Security specifications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XML Security Library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actical XML Security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8600" y="124920"/>
            <a:ext cx="701028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XML Security Library: Signature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8600" y="1428840"/>
            <a:ext cx="70102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4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sign_template(xmlDocPtr tmpl, xmlNodePtr startNod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mlSecKeyPtr key) {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mlSecDSigCtxPtr dsigCtx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* create signature context w/o keys manager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sigCtx = xmlSecDSigCtxCreate(NULL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(dsigCtx == NULL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printf(stderr,"Error: failed to create context.\n"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(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* set signature key in the context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sigCtx-&gt;signKey = xmlSecKeyDuplicate(key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(dsigCtx-&gt;signKey == NULL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printf(stderr,"Error: failed to duplicate key.\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mlSecDSigCtxDestroy(dsigCtx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(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8600" y="124920"/>
            <a:ext cx="701028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XML Security Library: Signature Example (Continu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58600" y="1428480"/>
            <a:ext cx="7010280" cy="28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4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* sign the template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(xmlSecDSigCtxSign(dsigCtx, startNode) &lt;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printf(stderr,"Error: signature failed.\n");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mlSecDSigCtxDestroy(dsigCtx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(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* destroy context object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mlSecDSigCtxDestroy(dsigCtx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8600" y="124920"/>
            <a:ext cx="701028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XML Security Library: Verifying Signa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58600" y="1428480"/>
            <a:ext cx="70102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56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pare keys manager (the same keys manager can be shared by multiple oper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56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 signed document and select the start node (&lt;dsig:Signature/&gt; or &lt;enc:EncryptedData/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56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ate signature (xmlSecDSigCtx) or encryption (xmlSecEncCtx) contex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56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ify signature or decrypt the data, consume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56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troy context objec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8600" y="124920"/>
            <a:ext cx="701028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XML Security Library: Signature Verifica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58600" y="1428840"/>
            <a:ext cx="70102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4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verify_document(xmlDocPtr doc, xmlNodePtr startNod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mlSecKeysMngrPtr keysMngr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mlSecDSigCtxPtr dsigCtx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r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* create signature context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sigCtx = xmlSecDSigCtxCreate(keysMngr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(dsigCtx == NULL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printf(stderr,"Error: failed to create context.\n"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(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* Verify signature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(xmlSecDSigCtxVerify(dsigCtx, startNode) &lt;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printf(stderr,"Error: verification failed.\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mlSecDSigCtxDestroy(dsigCtx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(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8600" y="146160"/>
            <a:ext cx="701028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XML Security Library: Signature Verification Example (Continu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58600" y="2079720"/>
            <a:ext cx="7010280" cy="34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4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* check verification result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(dsigCtx-&gt;status == xmlSecDSigStatusSucceede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* signature is vali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s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* signature is invali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s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* destroy signature context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mlSecDSigCtxDestroy(dsigCtx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(r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8960" y="410760"/>
            <a:ext cx="6858000" cy="623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5440" bIns="55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Practical XML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58600" y="1428480"/>
            <a:ext cx="7010280" cy="420516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5440" bIns="55440" anchor="t">
            <a:normAutofit fontScale="99000"/>
          </a:bodyPr>
          <a:p>
            <a:pPr marL="334440" indent="-334440">
              <a:lnSpc>
                <a:spcPct val="93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heck what was actually sign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800" indent="-278280">
              <a:lnSpc>
                <a:spcPct val="90000"/>
              </a:lnSpc>
              <a:spcBef>
                <a:spcPts val="663"/>
              </a:spcBef>
              <a:buClr>
                <a:srgbClr val="b4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 pre-digest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800" indent="-278280">
              <a:lnSpc>
                <a:spcPct val="90000"/>
              </a:lnSpc>
              <a:spcBef>
                <a:spcPts val="663"/>
              </a:spcBef>
              <a:buClr>
                <a:srgbClr val="b4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alyze used trans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imit allowed digest, signature, encryption and transform algorith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imit allowed key 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heck that data or key source matches expectation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131400"/>
            <a:ext cx="701064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8960" y="410760"/>
            <a:ext cx="6858000" cy="623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5440" bIns="55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W3C XML Security Standar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58600" y="1428840"/>
            <a:ext cx="7010280" cy="49831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5440" bIns="55440" anchor="t">
            <a:normAutofit fontScale="99000"/>
          </a:bodyPr>
          <a:p>
            <a:pPr marL="334440" indent="-334440">
              <a:lnSpc>
                <a:spcPct val="93000"/>
              </a:lnSpc>
              <a:spcBef>
                <a:spcPts val="56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ML Canonicalization and Exclusive XML Canonicalization (W3C recommendations)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ttp://www.w3.org/TR/xml-c14n/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ttp://www.w3.org/TR/xml-exc-c14n/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56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ML Signature (W3C recommendation)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ttp://www.w3.org/TR/xmldsig-core/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56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ML Encryption (W3C recommendation)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ttp://www.w3.org/TR/xmlenc-core/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56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ML Key Management (W3C working draft)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ttp://www.w3.org/TR/xkms2/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8960" y="134640"/>
            <a:ext cx="6858000" cy="1135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5440" bIns="55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Why Do We Need New Specifica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8600" y="1428480"/>
            <a:ext cx="7010280" cy="47876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5440" bIns="55440" anchor="t">
            <a:normAutofit/>
          </a:bodyPr>
          <a:p>
            <a:pPr marL="338040" indent="-338040">
              <a:lnSpc>
                <a:spcPct val="93000"/>
              </a:lnSpc>
              <a:spcBef>
                <a:spcPts val="788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SL/TLS provides transport level security when Web services need messages level secur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37"/>
              </a:spcBef>
              <a:buClr>
                <a:srgbClr val="b4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Store message for later 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37"/>
              </a:spcBef>
              <a:buClr>
                <a:srgbClr val="b4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Session keys in SSL/TLS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88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Fine grained security for XML documents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8600" y="410760"/>
            <a:ext cx="701028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XML Canonical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8600" y="1428480"/>
            <a:ext cx="7010280" cy="29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1200" indent="-331200">
              <a:lnSpc>
                <a:spcPct val="93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&lt;Test a="aa" b="bb"/&gt;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1200" indent="-331200">
              <a:lnSpc>
                <a:spcPct val="100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&lt;Test b="bb" a="aa"&gt;&lt;/Test&gt;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1200" indent="-331200">
              <a:lnSpc>
                <a:spcPct val="100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&lt;Test a="aa" b="bb"&gt;&lt;/Test&gt;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8600" y="410760"/>
            <a:ext cx="701028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XML Canonicalization (Continu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8600" y="1428840"/>
            <a:ext cx="70102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14N is a serialization of XML document or XPath node set to a binary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3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re are many C14N algorithms (W3C: C14N, Exclusive C14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3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ame input data (XML document or XPath node set) and same C14N algorithm produce the same binary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3000"/>
              </a:lnSpc>
              <a:spcBef>
                <a:spcPts val="711"/>
              </a:spcBef>
              <a:buClr>
                <a:srgbClr val="b4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se Exclusive C14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8600" y="14580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XML Digital Signature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431720"/>
            <a:ext cx="70106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3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sig:Signature ID?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sig:SignedInfo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sig:CanonicalizationMethod Algorithm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sig:SignatureMethod Algorithm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sig:Reference URI? &gt;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/dsig:SignedInfo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sig:SignatureValue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sig:KeyInfo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&lt;dsig:Object ID?&gt;)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/dsig:Signature&gt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8600" y="124920"/>
            <a:ext cx="701028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XML Digital Signature Structure: Reference el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8600" y="1428480"/>
            <a:ext cx="701028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3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sig:Reference URI?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&lt;dsig:Transform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&lt;dsig:Transform Algorithm /&gt;)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/dsig:Transforms&gt;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sig:DigestMethod Algorithm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sig:DigestValu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/dsig:Reference&gt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8600" y="124920"/>
            <a:ext cx="701028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XML Digital Signature Structure: KeyInfo el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8600" y="1428480"/>
            <a:ext cx="70102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3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dsig:KeyInfo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dsig:KeyName&g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dsig:KeyValue&g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dsig:RetrievalMethod&g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dsig:X509Data&g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dsig:PGPData&g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enc:EncryptedKey&g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enc:AgreementMethod&g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dsig:KeyName&g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dsig:RetrievalMethod&g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*&g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/dsig:KeyInfo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